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4FB44-167B-463E-A557-137FB1BFA8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18B14-4F68-4023-8227-87F56DFC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0D951-27F0-407D-A02B-C1F336E7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0FD2D-78A8-4049-8E05-56EA26D6C1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D5B06-AA22-4E1F-BDDE-CCFBF81A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69F03-4A51-4E78-899B-9459F19B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3F3DA-61AB-4370-A419-3A671063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86A05-279C-4E7C-AF46-B76ABC380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020D9-A61C-479F-8565-5CAFA4FBB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77859-1DB7-4F20-8703-5DBF88DB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62FB8-440D-4075-B707-47FD54E1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EF4A4-CCD9-4888-BB46-45D8ABEE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52FE-A041-4FCB-BC06-623175C739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处理伤口，及时止血、包扎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禁饮、禁灌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静止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准备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及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病情变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和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普及急救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损伤可由刀刺等锐器伤引起，闭合性损伤可由碰撞等钝性暴力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质性脏器损伤的典型特点是以腹腔内出血为主，腹腔穿刺可以抽出大量不凝的血液。空腔脏器损伤主要以腹膜刺激征表现为主。常见脏器损伤包括脾破裂、肝破裂、胰腺损伤和肠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抢救生命，然后处理腹部损伤。若有内脏脱出，应用消毒器皿覆盖保护脱出的内脏，简单包扎后积极转运。已确诊或高度怀疑内脏损伤者急诊手术。非手术治疗期间应严密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医师进行急救。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期间，应注意观察病情变化、卧床休息、遵医嘱禁食补液、抗感染、镇静止痛、提供心理支持、完善术前准备。术后注意监测病情变化，抗感染，禁食、胃肠减压，做好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腹部损伤的分类和常见致伤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腹部实质性脏器损伤和空腔性脏器损伤临床表现的异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明腹部损伤的急救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腹部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8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晚餐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被人用木棍打伤腹部，腹部疼痛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由家人送医院就诊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6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9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面色苍白，右侧中上腹见长形青紫瘀斑，腹胀明显，呈板状，移动性浊音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肠鸣音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：腹腔积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穿刺液检验：黄色、微浑，白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+++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红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±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质性脏器损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腔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脾、肝、胰、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腹腔穿刺术和腹腔灌洗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影像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腹腔镜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应处理对生命威胁最大的伤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8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小肠破裂，急诊行小肠一期缝合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问题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 与损伤致腹腔内出血、各种损伤脏器内容物渗出及呕吐、禁食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与腹部积液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休克、腹膜炎、腹腔脓肿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5:29Z</dcterms:modified>
  <cp:revision>91</cp:revision>
  <dc:subject/>
  <dc:title>内科护理学</dc:title>
</cp:coreProperties>
</file>